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87C-367E-465E-9EC6-B45BBF4C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45F-3638-479D-B346-6DB99C4B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02A-E00A-4D1A-B2D6-74E70485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545-3E86-46B5-A08D-B9054111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761C-796E-4E0A-8696-54DEDC7E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BE56-F49C-42D5-92BF-967E3357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6B5E-3827-4EFB-A8B8-A6742097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0A2C-6578-4466-B463-84DE519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2800-FBFE-4678-A770-1DB63DB4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439E-EF9D-4D55-8B10-E5EA8938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68AF-19FB-429F-965B-7D3B2748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3B4-5A5F-412B-8524-4D062823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C782-396D-4801-8082-3DF88B04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BE6A-AAF9-44FE-8B55-271C135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61F0-A25D-4095-9CD9-2B321EE7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418F-6C70-4398-A55E-FB0DD4A9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4785-E079-4172-B442-5C58DEB7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4CD-EC6E-4240-9BB6-47720A62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5E8-F3EC-4953-B31A-B140CFD6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0F7-D5F8-4F0C-B5C7-AB19C588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B5B4-B76A-41CB-A96E-E77CC4DE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034-08C6-4AEF-86C6-4851E1F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405-E6D4-4CD1-BEA2-080D05F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B06-EC35-4F77-8285-33B7852A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9583-0B87-40CF-9671-B7622E28AC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22A4-EA4B-41B3-B029-9607E544F86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Здоровый образ жиз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12" descr="P100068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Я на мосту"/>
          <p:cNvPicPr/>
          <p:nvPr/>
        </p:nvPicPr>
        <p:blipFill>
          <a:blip r:embed="rId2"/>
          <a:stretch/>
        </p:blipFill>
        <p:spPr>
          <a:xfrm>
            <a:off x="1600200" y="3941640"/>
            <a:ext cx="17510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1"/>
          <p:cNvPicPr/>
          <p:nvPr/>
        </p:nvPicPr>
        <p:blipFill>
          <a:blip r:embed="rId3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3"/>
          <p:cNvPicPr/>
          <p:nvPr/>
        </p:nvPicPr>
        <p:blipFill>
          <a:blip r:embed="rId4"/>
          <a:stretch/>
        </p:blipFill>
        <p:spPr>
          <a:xfrm>
            <a:off x="5946840" y="3941640"/>
            <a:ext cx="1441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лноценный сон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8" descr="snapshot_2dae895f_6db0f4a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SM1232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полнила ученица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итина 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а класс, школа №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лекается компьютерными иг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ит кататься на роликах, гулять с подругами, работать на компьют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0" descr="Фото058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вести здоровый образ жизни курить и пить спиртные напитки не следует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2" descr="SSM1220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SSM12248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укрепить своё здоровье следуе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ниматься спор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вильно питатьс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улять на природе,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лноценный со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т примеры занятия спорто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6" descr="snapshot_adae8020_adb0f51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napshot"/>
          <p:cNvPicPr/>
          <p:nvPr/>
        </p:nvPicPr>
        <p:blipFill>
          <a:blip r:embed="rId2"/>
          <a:stretch/>
        </p:blipFill>
        <p:spPr>
          <a:xfrm>
            <a:off x="4762440" y="24368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вот примеры из жизн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3" descr="CIMG1283"/>
          <p:cNvPicPr/>
          <p:nvPr/>
        </p:nvPicPr>
        <p:blipFill>
          <a:blip r:embed="rId1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Я и В куп"/>
          <p:cNvPicPr/>
          <p:nvPr/>
        </p:nvPicPr>
        <p:blipFill>
          <a:blip r:embed="rId2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100067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IMG1255"/>
          <p:cNvPicPr/>
          <p:nvPr/>
        </p:nvPicPr>
        <p:blipFill>
          <a:blip r:embed="rId4"/>
          <a:stretch/>
        </p:blipFill>
        <p:spPr>
          <a:xfrm>
            <a:off x="1017720" y="394164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ьное пит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8" descr="snapshot_75014294_f0d00203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1000260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SM10598"/>
          <p:cNvPicPr/>
          <p:nvPr/>
        </p:nvPicPr>
        <p:blipFill>
          <a:blip r:embed="rId3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1010695"/>
          <p:cNvPicPr/>
          <p:nvPr/>
        </p:nvPicPr>
        <p:blipFill>
          <a:blip r:embed="rId4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итание на отличн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2" descr="2"/>
          <p:cNvPicPr/>
          <p:nvPr/>
        </p:nvPicPr>
        <p:blipFill>
          <a:blip r:embed="rId1"/>
          <a:stretch/>
        </p:blipFill>
        <p:spPr>
          <a:xfrm>
            <a:off x="3084480" y="1600200"/>
            <a:ext cx="29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snapshot_edae8d77_8db0f3ec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SSM105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ЛиА на мосту"/>
          <p:cNvPicPr/>
          <p:nvPr/>
        </p:nvPicPr>
        <p:blipFill>
          <a:blip r:embed="rId3"/>
          <a:stretch/>
        </p:blipFill>
        <p:spPr>
          <a:xfrm>
            <a:off x="5792760" y="3941640"/>
            <a:ext cx="174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В на рыб"/>
          <p:cNvPicPr/>
          <p:nvPr/>
        </p:nvPicPr>
        <p:blipFill>
          <a:blip r:embed="rId4"/>
          <a:stretch/>
        </p:blipFill>
        <p:spPr>
          <a:xfrm>
            <a:off x="1601640" y="3941640"/>
            <a:ext cx="174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0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